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3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7.png" ContentType="image/png"/>
  <Override PartName="/ppt/media/image15.jpeg" ContentType="image/jpeg"/>
  <Override PartName="/ppt/media/image2.png" ContentType="image/png"/>
  <Override PartName="/ppt/media/image4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5364-34BE-45D4-95FA-9D2F7334B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8FC4-4A05-455E-B2ED-CA42B8C9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632A-78FE-46B3-8D1A-79B7ED516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7231-A5F4-4ED4-8149-5E5C8BDBE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D38D-C275-43A4-880F-A2969A623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8E40-9271-4869-AD3A-434DCDA1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206F-B072-47DD-BC1F-A571282E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CD32-4B3D-4AF2-95DF-8FEF96EC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75A4-8C73-4FD6-98CC-BD5F3A52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171F-7A54-4E49-9E85-DBA9DDD9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B045-2E24-40B5-A2CD-00AD9A4E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B58C-27C3-402B-97B7-B20004BD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0833-3A45-4518-9B2E-AF374738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8537-11B2-4547-A216-EA8F2EF1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D9C1-4B27-452B-9392-D35545BB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85637-A547-4FD2-A938-838E11E18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F8D2-AB28-4824-A3FF-0A08FB368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CC6A2-B7D5-4988-962D-4BAA8E491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5A5CB-978E-4F2C-96E4-0664B845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7B448-E5D3-4E10-BC6E-0E63BDAB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254FF-8C24-4388-A87F-33DF68AB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C360F-135D-48FB-A834-E448567A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BCC5-FF2A-443E-A368-B9E2C21E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3E653-7872-4BE3-A7A7-C49599CF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5CC9D-F69F-46C1-AAF0-3CB7DE18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05548-E263-46E6-8410-D07E37E2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D8293-94C7-451F-9FB9-0D85FABE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F2DC0-C35C-4B58-8065-748083B4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93D8B-78D3-41DA-A965-30FA3DCFF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F86D2-8D00-4A65-A420-3C0F7E784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ABF54-5D95-454A-AAB3-DAA13FB94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B4CC3-9961-4413-B6DD-21462652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CBB3C-BC53-4993-ACE6-D376F08B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97AC-ED08-4DAC-859E-611D3396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F2005-FA66-4DE7-80C0-DDBDFDA8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A991C-B7D6-4770-8713-F7DFBDF5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3B4F3-9B5E-48C0-BCB9-F8486725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1ABAA-2DFE-4D0C-A31F-3FE95164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E39C0-CF27-47D0-A096-B6D8FEEB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AD7B5-A74E-46A5-B827-B2BA835A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832A5-98AB-4953-A1D0-D0694B25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3837D-0164-4B2B-85EC-79DE0D3FC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6E6EC-75CE-44DC-9644-1623FBFF0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48DE-16CC-4746-BEE8-817403DF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3CF5-B8B5-4872-B1B0-C2613A3E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B024-5980-4481-A9BA-CB1DA69A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7C2A-DA83-4E87-9BA7-684207A4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E443-3982-44F9-9895-39274E33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B27B-9DCE-40A0-B039-700F1C3C1AA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5292-8210-4841-AB54-19A8B83DD80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E356-7B89-4395-A281-6CAE61ADD8E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8FEE-5AE0-4B3E-A1F5-A184F8E6168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380360" y="26028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7" descr="C:\Users\азизова\Downloads\9489-20171201_120859.jpg"/>
          <p:cNvPicPr/>
          <p:nvPr/>
        </p:nvPicPr>
        <p:blipFill>
          <a:blip r:embed="rId2"/>
          <a:stretch/>
        </p:blipFill>
        <p:spPr>
          <a:xfrm>
            <a:off x="6378480" y="0"/>
            <a:ext cx="2765520" cy="218916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8" descr="C:\Users\азизова\Desktop\35b4dfaeec15b583b2015dbad66c4121.jpg"/>
          <p:cNvPicPr/>
          <p:nvPr/>
        </p:nvPicPr>
        <p:blipFill>
          <a:blip r:embed="rId3"/>
          <a:stretch/>
        </p:blipFill>
        <p:spPr>
          <a:xfrm>
            <a:off x="108000" y="4437000"/>
            <a:ext cx="2232000" cy="2160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C:\Users\азизова\Desktop\c4ec20b1a5e229c46fd767efd00f0f7f.jpg"/>
          <p:cNvPicPr/>
          <p:nvPr/>
        </p:nvPicPr>
        <p:blipFill>
          <a:blip r:embed="rId4"/>
          <a:stretch/>
        </p:blipFill>
        <p:spPr>
          <a:xfrm>
            <a:off x="6804000" y="4292640"/>
            <a:ext cx="2160720" cy="2305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C:\Users\азизова\Desktop\5mol5Kt2A4E0aBZJDS4V1650030830.jpeg"/>
          <p:cNvPicPr/>
          <p:nvPr/>
        </p:nvPicPr>
        <p:blipFill>
          <a:blip r:embed="rId5"/>
          <a:stretch/>
        </p:blipFill>
        <p:spPr>
          <a:xfrm>
            <a:off x="2411280" y="4292640"/>
            <a:ext cx="43452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6" name="Рисунок 9" descr="C:\Documents and Settings\User\Рабочий стол\рабочий стол 2018года\Новый 2018-2019 учебный год\Детям Беслана фото на сайт\IMG-20180908-WA0041.jpg"/>
          <p:cNvPicPr/>
          <p:nvPr/>
        </p:nvPicPr>
        <p:blipFill>
          <a:blip r:embed="rId2"/>
          <a:stretch/>
        </p:blipFill>
        <p:spPr>
          <a:xfrm>
            <a:off x="755640" y="3933720"/>
            <a:ext cx="4103640" cy="281628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11" descr="D:\рабочий стол 2018года\Новая папка (3)\IMG_20180502_120516.jpg"/>
          <p:cNvPicPr/>
          <p:nvPr/>
        </p:nvPicPr>
        <p:blipFill>
          <a:blip r:embed="rId3"/>
          <a:stretch/>
        </p:blipFill>
        <p:spPr>
          <a:xfrm>
            <a:off x="4932360" y="3933720"/>
            <a:ext cx="3960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9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1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азизова</cp:lastModifiedBy>
  <dcterms:modified xsi:type="dcterms:W3CDTF">2022-11-24T11:11:25Z</dcterms:modified>
  <cp:revision>9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